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2EC0690-9EC4-494A-A2A9-75F8EF8F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966-107B-4056-95DE-461761AE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B79-520A-450C-BF9A-CE875370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DD3-643B-4A1C-A3C5-AA24ED0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2D3-99B0-44FC-85DC-E1E9F8F1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8B41-EB33-4FA2-9294-F672FC5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377-E4EC-42BF-BCAA-DB62BD68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203B-407B-482A-99B0-E8F86718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219-052E-4CC1-97BE-B647FDE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A5FE-25EB-4142-8E22-F1E4C21A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0513-EC46-48A6-A87F-6FD14724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FE9A-3B03-4FE3-8C34-8181F3B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CF5-9F99-458E-B894-7D2322A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D1AD-F49C-4148-988A-BAFC934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208-1FC3-4132-9EE9-9820A67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DB3-6937-41C8-B2EB-9CCCE0E6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B16-CB94-4A8A-939B-AF80F7A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1F6A-7B97-416D-88A8-C8EA6083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8B0-7C2A-4A46-98A5-A0D16C5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E54-27F9-4DA5-861B-7BB22E8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537-B3B0-4EB9-8040-9E0F0EBA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A3E-AC07-4E64-B12B-247FDE6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99C-990E-4B6F-B738-8277E9E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F50-891E-44E6-AFC3-48B109F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0E8-3D61-4499-8702-C401E10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DC0-8D45-4E06-81D2-B73300A6585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CC8-5B75-4A54-A54F-E4F8302838B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E39E-2948-4456-8000-B467807326C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Facilitator nam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dditional questions might you 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: Session 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all files from CAMPPP!</a:t>
            </a:r>
            <a:br>
              <a:rPr sz="2400"/>
            </a:br>
            <a:br>
              <a:rPr sz="12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63640" y="2600280"/>
            <a:ext cx="594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Donna</cp:lastModifiedBy>
  <dcterms:modified xsi:type="dcterms:W3CDTF">2009-08-21T04:13:09Z</dcterms:modified>
  <cp:revision>124</cp:revision>
  <dc:subject/>
  <dc:title>Math GAINS 2008-09</dc:title>
</cp:coreProperties>
</file>